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158920" y="387504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58920" y="387504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78840" y="387504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9520" y="161928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40120" y="161928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158920" y="387504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49520" y="387504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40120" y="387504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58920" y="161928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158920" y="539640"/>
            <a:ext cx="64785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158920" y="387504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158920" y="161928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78840" y="387504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158920" y="387504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58920" y="387504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58920" y="387504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78840" y="387504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49520" y="161928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40120" y="161928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158920" y="387504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49520" y="387504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40120" y="3875040"/>
            <a:ext cx="2085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58920" y="539640"/>
            <a:ext cx="64785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158920" y="387504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78840" y="387504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5892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78840" y="1619280"/>
            <a:ext cx="3161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58920" y="3875040"/>
            <a:ext cx="6478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4fa0"/>
                </a:solidFill>
                <a:latin typeface="FuturaT"/>
              </a:rPr>
              <a:t>Click to edit the title text format</a:t>
            </a: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aT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  <a:p>
            <a:pPr lvl="1" marL="895320" indent="-352440">
              <a:spcBef>
                <a:spcPts val="451"/>
              </a:spcBef>
              <a:buClr>
                <a:srgbClr val="ffd1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aT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  <a:p>
            <a:pPr lvl="2" marL="1438200" indent="-361800">
              <a:spcBef>
                <a:spcPts val="451"/>
              </a:spcBef>
              <a:buClr>
                <a:srgbClr val="b6b6b6"/>
              </a:buClr>
              <a:buSzPct val="11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aT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  <a:p>
            <a:pPr lvl="3" marL="2749680" indent="-228600">
              <a:spcBef>
                <a:spcPts val="799"/>
              </a:spcBef>
              <a:buClr>
                <a:srgbClr val="808080"/>
              </a:buClr>
              <a:buSzPct val="110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utura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FuturaT"/>
            </a:endParaRPr>
          </a:p>
          <a:p>
            <a:pPr lvl="4" marL="3157560" indent="-228600">
              <a:spcBef>
                <a:spcPts val="799"/>
              </a:spcBef>
              <a:buClr>
                <a:srgbClr val="808080"/>
              </a:buClr>
              <a:buSzPct val="110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utura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FuturaT"/>
            </a:endParaRPr>
          </a:p>
          <a:p>
            <a:pPr lvl="5" marL="3157560" indent="-228600">
              <a:spcBef>
                <a:spcPts val="799"/>
              </a:spcBef>
              <a:buClr>
                <a:srgbClr val="80808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utura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FuturaT"/>
            </a:endParaRPr>
          </a:p>
          <a:p>
            <a:pPr lvl="6" marL="3157560" indent="-228600">
              <a:spcBef>
                <a:spcPts val="799"/>
              </a:spcBef>
              <a:buClr>
                <a:srgbClr val="80808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utura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Futura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4"/>
          <p:cNvSpPr/>
          <p:nvPr/>
        </p:nvSpPr>
        <p:spPr>
          <a:xfrm>
            <a:off x="0" y="1819440"/>
            <a:ext cx="1800360" cy="503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5892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4fa0"/>
                </a:solidFill>
                <a:latin typeface="FuturaT"/>
              </a:rPr>
              <a:t>Click to edit the title text format</a:t>
            </a: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158920" y="1619280"/>
            <a:ext cx="6478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Aft>
                <a:spcPts val="1125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  <a:p>
            <a:pPr lvl="1" marL="895320" indent="-352440">
              <a:spcAft>
                <a:spcPts val="1125"/>
              </a:spcAft>
              <a:buClr>
                <a:srgbClr val="ffd1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  <a:p>
            <a:pPr lvl="2" marL="1438200" indent="-361800">
              <a:spcAft>
                <a:spcPts val="1125"/>
              </a:spcAft>
              <a:buClr>
                <a:srgbClr val="b6b6b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  <a:p>
            <a:pPr lvl="3" marL="2749680" indent="-228600">
              <a:spcAft>
                <a:spcPts val="1125"/>
              </a:spcAft>
              <a:buClr>
                <a:srgbClr val="80808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  <a:p>
            <a:pPr lvl="4" marL="3157560" indent="-228600">
              <a:spcAft>
                <a:spcPts val="1125"/>
              </a:spcAft>
              <a:buClr>
                <a:srgbClr val="80808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  <a:p>
            <a:pPr lvl="5" marL="3157560" indent="-228600">
              <a:spcAft>
                <a:spcPts val="1125"/>
              </a:spcAft>
              <a:buClr>
                <a:srgbClr val="80808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  <a:p>
            <a:pPr lvl="6" marL="3157560" indent="-228600">
              <a:spcAft>
                <a:spcPts val="1125"/>
              </a:spcAft>
              <a:buClr>
                <a:srgbClr val="80808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41" name="Text Box 17"/>
          <p:cNvSpPr/>
          <p:nvPr/>
        </p:nvSpPr>
        <p:spPr>
          <a:xfrm>
            <a:off x="0" y="649764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 marL="177840" indent="-177840">
              <a:lnSpc>
                <a:spcPts val="998"/>
              </a:lnSpc>
              <a:spcAft>
                <a:spcPts val="1001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216000"/>
            <a:ext cx="1447920" cy="81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7"/>
          <p:cNvSpPr/>
          <p:nvPr/>
        </p:nvSpPr>
        <p:spPr>
          <a:xfrm>
            <a:off x="101520" y="657396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 marL="177840" indent="-177840">
              <a:lnSpc>
                <a:spcPts val="998"/>
              </a:lnSpc>
              <a:spcAft>
                <a:spcPts val="1001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81B3-14B8-49B1-84F8-D894C9976943}" type="slidenum">
              <a:rPr b="0" lang="en-GB" sz="800" spc="-1" strike="noStrike">
                <a:solidFill>
                  <a:srgbClr val="114fa0"/>
                </a:solidFill>
                <a:latin typeface="Verdana"/>
              </a:rPr>
              <a:t>&lt;number&gt;</a:t>
            </a:fld>
            <a:r>
              <a:rPr b="0" lang="en-GB" sz="800" spc="-1" strike="noStrike">
                <a:solidFill>
                  <a:srgbClr val="114fa0"/>
                </a:solidFill>
                <a:latin typeface="Verdana"/>
              </a:rPr>
              <a:t> / 9</a:t>
            </a:r>
            <a:endParaRPr b="0" lang="en-US" sz="800" spc="-1" strike="noStrike">
              <a:solidFill>
                <a:srgbClr val="808080"/>
              </a:solidFill>
              <a:latin typeface="Futura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8"/>
          <p:cNvGrpSpPr/>
          <p:nvPr/>
        </p:nvGrpSpPr>
        <p:grpSpPr>
          <a:xfrm>
            <a:off x="0" y="0"/>
            <a:ext cx="9143640" cy="5373360"/>
            <a:chOff x="0" y="0"/>
            <a:chExt cx="9143640" cy="5373360"/>
          </a:xfrm>
        </p:grpSpPr>
        <p:sp>
          <p:nvSpPr>
            <p:cNvPr id="81" name="Rectangle 9"/>
            <p:cNvSpPr/>
            <p:nvPr/>
          </p:nvSpPr>
          <p:spPr>
            <a:xfrm>
              <a:off x="0" y="0"/>
              <a:ext cx="3048120" cy="1074960"/>
            </a:xfrm>
            <a:prstGeom prst="rect">
              <a:avLst/>
            </a:prstGeom>
            <a:solidFill>
              <a:srgbClr val="114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0" y="2149920"/>
              <a:ext cx="3048120" cy="1074960"/>
            </a:xfrm>
            <a:prstGeom prst="rect">
              <a:avLst/>
            </a:prstGeom>
            <a:solidFill>
              <a:srgbClr val="114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0" y="4298400"/>
              <a:ext cx="3048120" cy="1074960"/>
            </a:xfrm>
            <a:prstGeom prst="rect">
              <a:avLst/>
            </a:prstGeom>
            <a:solidFill>
              <a:srgbClr val="114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84" name="Rectangle 12"/>
            <p:cNvSpPr/>
            <p:nvPr/>
          </p:nvSpPr>
          <p:spPr>
            <a:xfrm>
              <a:off x="4062600" y="0"/>
              <a:ext cx="1016640" cy="5373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85" name="Rectangle 13"/>
            <p:cNvSpPr/>
            <p:nvPr/>
          </p:nvSpPr>
          <p:spPr>
            <a:xfrm>
              <a:off x="6096240" y="0"/>
              <a:ext cx="3047400" cy="1074960"/>
            </a:xfrm>
            <a:prstGeom prst="rect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86" name="Rectangle 14"/>
            <p:cNvSpPr/>
            <p:nvPr/>
          </p:nvSpPr>
          <p:spPr>
            <a:xfrm>
              <a:off x="6096240" y="2149920"/>
              <a:ext cx="3047400" cy="1074960"/>
            </a:xfrm>
            <a:prstGeom prst="rect">
              <a:avLst/>
            </a:pr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87" name="Rectangle 15"/>
            <p:cNvSpPr/>
            <p:nvPr/>
          </p:nvSpPr>
          <p:spPr>
            <a:xfrm>
              <a:off x="6096240" y="4298400"/>
              <a:ext cx="1014120" cy="1074960"/>
            </a:xfrm>
            <a:prstGeom prst="rect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</p:grpSp>
      <p:sp>
        <p:nvSpPr>
          <p:cNvPr id="88" name="Text Box 10"/>
          <p:cNvSpPr/>
          <p:nvPr/>
        </p:nvSpPr>
        <p:spPr>
          <a:xfrm>
            <a:off x="-3240" y="5757840"/>
            <a:ext cx="9144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FuturaT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T"/>
              </a:rPr>
              <a:t>February 1st 2011, Milan</a:t>
            </a:r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0" y="2205000"/>
            <a:ext cx="3048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uturaT"/>
              </a:rPr>
              <a:t>Richard Pelly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FuturaT"/>
              </a:rPr>
              <a:t>Chief Executive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095880" y="2133720"/>
            <a:ext cx="3048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91" name=""/>
          <p:cNvSpPr/>
          <p:nvPr/>
        </p:nvSpPr>
        <p:spPr>
          <a:xfrm>
            <a:off x="6146640" y="2273400"/>
            <a:ext cx="3162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4fa0"/>
                </a:solidFill>
                <a:latin typeface="FuturaT"/>
              </a:rPr>
              <a:t>PerMicro 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4fa0"/>
                </a:solidFill>
                <a:latin typeface="FuturaT"/>
              </a:rPr>
              <a:t>Launch Event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14680" y="5270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14fa0"/>
                </a:solidFill>
                <a:latin typeface="FuturaT"/>
              </a:rPr>
              <a:t>EIF at a Glance</a:t>
            </a: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2700360" y="6137280"/>
            <a:ext cx="5721480" cy="720720"/>
          </a:xfrm>
          <a:prstGeom prst="rect">
            <a:avLst/>
          </a:prstGeom>
          <a:gradFill rotWithShape="0">
            <a:gsLst>
              <a:gs pos="0">
                <a:srgbClr val="ffd100">
                  <a:alpha val="6627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4fa0"/>
                </a:solidFill>
                <a:latin typeface="Futura Lt BT"/>
              </a:rPr>
              <a:t>Dual Objective of Meeting EU Policy Goals &amp; Generating a Satisfactory Return on Equity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1623960" y="1781280"/>
            <a:ext cx="785232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T"/>
                <a:ea typeface="Times New Roman"/>
              </a:rPr>
              <a:t>EU specialised institution for SMEs,</a:t>
            </a:r>
            <a:r>
              <a:rPr b="0" lang="en-GB" sz="1600" spc="-1" strike="noStrike">
                <a:solidFill>
                  <a:srgbClr val="000000"/>
                </a:solidFill>
                <a:latin typeface="FuturaT"/>
                <a:ea typeface="Times New Roman"/>
              </a:rPr>
              <a:t> risk financing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T"/>
                <a:ea typeface="Times New Roman"/>
              </a:rPr>
              <a:t>Venture Capital</a:t>
            </a:r>
            <a:r>
              <a:rPr b="0" lang="en-GB" sz="1600" spc="-1" strike="noStrike">
                <a:solidFill>
                  <a:srgbClr val="000000"/>
                </a:solidFill>
                <a:latin typeface="FuturaT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FuturaT"/>
                <a:ea typeface="Times New Roman"/>
              </a:rPr>
              <a:t>and Mezzanine </a:t>
            </a:r>
            <a:r>
              <a:rPr b="0" lang="en-GB" sz="1600" spc="-1" strike="noStrike">
                <a:solidFill>
                  <a:srgbClr val="000000"/>
                </a:solidFill>
                <a:latin typeface="FuturaT"/>
                <a:ea typeface="Times New Roman"/>
              </a:rPr>
              <a:t>(fund of funds)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T"/>
                <a:ea typeface="Times New Roman"/>
              </a:rPr>
              <a:t>Structuring and Guaranteeing</a:t>
            </a:r>
            <a:r>
              <a:rPr b="0" lang="en-GB" sz="1600" spc="-1" strike="noStrike">
                <a:solidFill>
                  <a:srgbClr val="000000"/>
                </a:solidFill>
                <a:latin typeface="FuturaT"/>
                <a:ea typeface="Times New Roman"/>
              </a:rPr>
              <a:t> portfolios of SME and microfinance loans/leases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6797520" y="3349800"/>
            <a:ext cx="2143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T"/>
              </a:rPr>
              <a:t>Authorised Capital 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T"/>
              </a:rPr>
              <a:t>€ </a:t>
            </a:r>
            <a:r>
              <a:rPr b="1" lang="en-GB" sz="1600" spc="-1" strike="noStrike">
                <a:solidFill>
                  <a:srgbClr val="000000"/>
                </a:solidFill>
                <a:latin typeface="FuturaT"/>
              </a:rPr>
              <a:t>3bn</a:t>
            </a:r>
            <a:r>
              <a:rPr b="0" lang="en-GB" sz="1600" spc="-1" strike="noStrike">
                <a:solidFill>
                  <a:srgbClr val="000000"/>
                </a:solidFill>
                <a:latin typeface="FuturaT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T"/>
              </a:rPr>
              <a:t>EIB: 61%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T"/>
              </a:rPr>
              <a:t>EU: 29 %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T"/>
              </a:rPr>
              <a:t>Fin</a:t>
            </a:r>
            <a:r>
              <a:rPr b="0" lang="cs-CZ" sz="1600" spc="-1" strike="noStrike">
                <a:solidFill>
                  <a:srgbClr val="000000"/>
                </a:solidFill>
                <a:latin typeface="FuturaT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FuturaT"/>
              </a:rPr>
              <a:t> institutions: 9 %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uturaT"/>
              </a:rPr>
              <a:t>To be issued: 1%</a:t>
            </a:r>
            <a:endParaRPr b="0" lang="en-US" sz="10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1806480" y="3382920"/>
            <a:ext cx="2270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T"/>
              </a:rPr>
              <a:t>Geographic Focus /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T"/>
              </a:rPr>
              <a:t>Intermediaries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T"/>
              </a:rPr>
              <a:t>EU 27, EFTA, 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T"/>
              </a:rPr>
              <a:t>Candidate Countries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T"/>
              </a:rPr>
              <a:t>Distributing through Banks 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T"/>
              </a:rPr>
              <a:t>and Funds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4699080" y="3675240"/>
            <a:ext cx="1258920" cy="739440"/>
            <a:chOff x="4699080" y="3675240"/>
            <a:chExt cx="1258920" cy="739440"/>
          </a:xfrm>
        </p:grpSpPr>
        <p:sp>
          <p:nvSpPr>
            <p:cNvPr id="98" name="Rectangle 9"/>
            <p:cNvSpPr/>
            <p:nvPr/>
          </p:nvSpPr>
          <p:spPr>
            <a:xfrm>
              <a:off x="4699080" y="3675240"/>
              <a:ext cx="419760" cy="147960"/>
            </a:xfrm>
            <a:prstGeom prst="rect">
              <a:avLst/>
            </a:prstGeom>
            <a:solidFill>
              <a:srgbClr val="114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4699080" y="3971160"/>
              <a:ext cx="419760" cy="147960"/>
            </a:xfrm>
            <a:prstGeom prst="rect">
              <a:avLst/>
            </a:prstGeom>
            <a:solidFill>
              <a:srgbClr val="114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4699080" y="4266720"/>
              <a:ext cx="419760" cy="147960"/>
            </a:xfrm>
            <a:prstGeom prst="rect">
              <a:avLst/>
            </a:prstGeom>
            <a:solidFill>
              <a:srgbClr val="114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5258520" y="3675240"/>
              <a:ext cx="139680" cy="73944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5538600" y="3675240"/>
              <a:ext cx="419400" cy="147960"/>
            </a:xfrm>
            <a:prstGeom prst="rect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538600" y="3971160"/>
              <a:ext cx="419400" cy="147960"/>
            </a:xfrm>
            <a:prstGeom prst="rect">
              <a:avLst/>
            </a:pr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5538600" y="4266720"/>
              <a:ext cx="139320" cy="147960"/>
            </a:xfrm>
            <a:prstGeom prst="rect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FuturaT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680160" y="4753080"/>
            <a:ext cx="142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4fa0"/>
                </a:solidFill>
                <a:latin typeface="FuturaT"/>
              </a:rPr>
              <a:t>AAA rated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106" name=""/>
          <p:cNvSpPr/>
          <p:nvPr/>
        </p:nvSpPr>
        <p:spPr>
          <a:xfrm>
            <a:off x="6197760" y="3924360"/>
            <a:ext cx="520560" cy="203040"/>
          </a:xfrm>
          <a:custGeom>
            <a:avLst/>
            <a:gdLst>
              <a:gd name="textAreaLeft" fmla="*/ 0 w 520560"/>
              <a:gd name="textAreaRight" fmla="*/ 520920 w 52056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fa0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dfdfd"/>
            </a:solidFill>
            <a:miter/>
          </a:ln>
          <a:effectLst>
            <a:outerShdw dist="17819" dir="2700000" blurRad="0" rotWithShape="0">
              <a:srgbClr val="f2f2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54760" y="3048120"/>
            <a:ext cx="520560" cy="203040"/>
          </a:xfrm>
          <a:custGeom>
            <a:avLst/>
            <a:gdLst>
              <a:gd name="textAreaLeft" fmla="*/ 0 w 520560"/>
              <a:gd name="textAreaRight" fmla="*/ 520920 w 52056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fa0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dfdfd"/>
            </a:solidFill>
            <a:miter/>
          </a:ln>
          <a:effectLst>
            <a:outerShdw dist="17819" dir="2700000" blurRad="0" rotWithShape="0">
              <a:srgbClr val="f2f2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3936600" y="3911760"/>
            <a:ext cx="520920" cy="203040"/>
          </a:xfrm>
          <a:custGeom>
            <a:avLst/>
            <a:gdLst>
              <a:gd name="textAreaLeft" fmla="*/ 0 w 520920"/>
              <a:gd name="textAreaRight" fmla="*/ 521280 w 5209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fa0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fdfdfd"/>
            </a:solidFill>
            <a:miter/>
          </a:ln>
          <a:effectLst>
            <a:outerShdw dist="17819" dir="2700000" blurRad="0" rotWithShape="0">
              <a:srgbClr val="f2f2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109" name=""/>
          <p:cNvSpPr/>
          <p:nvPr/>
        </p:nvSpPr>
        <p:spPr>
          <a:xfrm>
            <a:off x="2832120" y="5334120"/>
            <a:ext cx="45720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2f2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FuturaT"/>
              </a:rPr>
              <a:t>Staffing, Culture and Values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041440" y="4800240"/>
            <a:ext cx="520560" cy="2034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fa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fdfdfd"/>
            </a:solidFill>
            <a:miter/>
          </a:ln>
          <a:effectLst>
            <a:outerShdw dist="17819" dir="2700000" blurRad="0" rotWithShape="0">
              <a:srgbClr val="f2f2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808080"/>
              </a:solidFill>
              <a:latin typeface="Futur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14680" y="514080"/>
            <a:ext cx="64785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114fa0"/>
                </a:solidFill>
                <a:latin typeface="FuturaT"/>
              </a:rPr>
              <a:t>Microfinance in Europe</a:t>
            </a: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174320"/>
            <a:ext cx="69962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03840" indent="-3038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Micro-enterprises make up 90% of businesses in Europe and 99% of yearly enterprise creation – 33% launched by the unemployed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3840" indent="-3038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Important growth generating market segment with social and financial impacts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3840" indent="0" algn="ctr">
              <a:spcBef>
                <a:spcPts val="125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FuturaT"/>
              </a:rPr>
              <a:t>BUT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3840" indent="-3038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Market is fragmented and underdeveloped (particularly in Western Europe)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3840" indent="-3038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Large variety of MFIs (</a:t>
            </a:r>
            <a:r>
              <a:rPr b="0" lang="de-DE" sz="2000" spc="-1" strike="noStrike">
                <a:solidFill>
                  <a:srgbClr val="000000"/>
                </a:solidFill>
                <a:latin typeface="FuturaT"/>
              </a:rPr>
              <a:t>small non-profit organisations or governments-owned development agencies, large commercial banks)</a:t>
            </a: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3840" indent="-3038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Microfinance often characterised by subsidised services and not self-sustainable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384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384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384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560680" y="6137280"/>
            <a:ext cx="5721480" cy="720720"/>
          </a:xfrm>
          <a:prstGeom prst="rect">
            <a:avLst/>
          </a:prstGeom>
          <a:gradFill rotWithShape="0">
            <a:gsLst>
              <a:gs pos="0">
                <a:srgbClr val="ffd100">
                  <a:alpha val="6627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4fa0"/>
                </a:solidFill>
                <a:latin typeface="Futura Lt BT"/>
              </a:rPr>
              <a:t>Efficient Support of the European Microfinance Sector Important for Entrepreneurship and Job Creation 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5396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14fa0"/>
                </a:solidFill>
                <a:latin typeface="FuturaT"/>
              </a:rPr>
              <a:t>EIF as Catalyst of Microfinance within the EU</a:t>
            </a: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39880" y="1539360"/>
            <a:ext cx="68342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61800" indent="-36180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Microfinance as an emerging strategic business line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6180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61800" indent="-36180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Expertise and track record (EPPA, JASMINE, RCM, JEREMIE)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61800" indent="-361800">
              <a:lnSpc>
                <a:spcPct val="210000"/>
              </a:lnSpc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Financing capacity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61800" indent="-361800">
              <a:lnSpc>
                <a:spcPct val="210000"/>
              </a:lnSpc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Dedicated resources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61800" indent="-361800">
              <a:lnSpc>
                <a:spcPct val="210000"/>
              </a:lnSpc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Geographic reach across EU-27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03200" y="2224080"/>
            <a:ext cx="7574040" cy="2911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62856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14fa0"/>
                </a:solidFill>
                <a:latin typeface="FuturaT"/>
              </a:rPr>
              <a:t>EIF Microfinance Operating Model</a:t>
            </a: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78040" y="336240"/>
            <a:ext cx="647856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114fa0"/>
                </a:solidFill>
                <a:latin typeface="FuturaT"/>
              </a:rPr>
              <a:t>Microfinance: EIF’s Activities since 2000</a:t>
            </a: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14320" y="1244160"/>
            <a:ext cx="742932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EIF manages various mandates designed to encourage microfinance institutions to increase financial availability to micro-entrepreneurs and micro-entreprises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32640" indent="-3326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Through these mandates, EIF has already invested in microfinance 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lvl="1" marL="823680" indent="-324000">
              <a:spcAft>
                <a:spcPts val="1250"/>
              </a:spcAft>
              <a:buClr>
                <a:srgbClr val="ffd1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Guarantees transactions signed under the EU MAP (2001-2006) and CIP (2007-2013) programmes for a total commitment of     </a:t>
            </a:r>
            <a:r>
              <a:rPr b="0" lang="fr-FR" sz="1800" spc="-1" strike="noStrike">
                <a:solidFill>
                  <a:srgbClr val="000000"/>
                </a:solidFill>
                <a:latin typeface="FuturaT"/>
              </a:rPr>
              <a:t>€</a:t>
            </a: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 636m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lvl="1" marL="823680" indent="-324000">
              <a:spcAft>
                <a:spcPts val="1125"/>
              </a:spcAft>
              <a:buClr>
                <a:srgbClr val="ffd1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Participation in securitisation transactions for a total commitment of </a:t>
            </a:r>
            <a:r>
              <a:rPr b="0" lang="fr-FR" sz="1800" spc="-1" strike="noStrike">
                <a:solidFill>
                  <a:srgbClr val="000000"/>
                </a:solidFill>
                <a:latin typeface="FuturaT"/>
              </a:rPr>
              <a:t>€ 120m</a:t>
            </a:r>
            <a:endParaRPr b="0" lang="en-US" sz="1800" spc="-1" strike="noStrike">
              <a:solidFill>
                <a:srgbClr val="000000"/>
              </a:solidFill>
              <a:latin typeface="FuturaT"/>
            </a:endParaRPr>
          </a:p>
          <a:p>
            <a:pPr lvl="1" marL="823680" indent="-324000">
              <a:spcAft>
                <a:spcPts val="1250"/>
              </a:spcAft>
              <a:buClr>
                <a:srgbClr val="ffd1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JASMINE Technical Assistance for </a:t>
            </a:r>
            <a:r>
              <a:rPr b="0" lang="fr-FR" sz="1800" spc="-1" strike="noStrike">
                <a:solidFill>
                  <a:srgbClr val="000000"/>
                </a:solidFill>
                <a:latin typeface="FuturaT"/>
              </a:rPr>
              <a:t>€</a:t>
            </a: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 6m to support microfinance providers: 15 institutions selected and supported (including PerMicro)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lvl="1" marL="8236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3264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700360" y="6137280"/>
            <a:ext cx="5721480" cy="720720"/>
          </a:xfrm>
          <a:prstGeom prst="rect">
            <a:avLst/>
          </a:prstGeom>
          <a:gradFill rotWithShape="0">
            <a:gsLst>
              <a:gs pos="0">
                <a:srgbClr val="ffd100">
                  <a:alpha val="6627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4fa0"/>
                </a:solidFill>
                <a:latin typeface="Futura Lt BT"/>
              </a:rPr>
              <a:t>Broad Range of  Microfinance Activities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41400" y="450720"/>
            <a:ext cx="6478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14fa0"/>
                </a:solidFill>
                <a:latin typeface="FuturaT"/>
              </a:rPr>
              <a:t>The Progress Microfinance Initiative: “Umbrella” for Existing Microfinance Initiatives</a:t>
            </a:r>
            <a:endParaRPr b="0" lang="en-US" sz="26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743120" y="1676520"/>
            <a:ext cx="7005600" cy="52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Aft>
                <a:spcPts val="1250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Initiative launched in 2010 to promote microfinance in the EU-27 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>
              <a:lnSpc>
                <a:spcPct val="120000"/>
              </a:lnSpc>
              <a:spcAft>
                <a:spcPts val="1250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EUR 200m funded by EC (DG EMPL) budget and EIB - </a:t>
            </a: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managed by EIF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>
              <a:lnSpc>
                <a:spcPct val="120000"/>
              </a:lnSpc>
              <a:spcAft>
                <a:spcPts val="1250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Key objectives: increase availability of finance for enterprise creation for the benefit of micro-entrepreneurs, the unemployed and groups with limited access to the traditional banking system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 algn="just">
              <a:lnSpc>
                <a:spcPct val="120000"/>
              </a:lnSpc>
              <a:spcAft>
                <a:spcPts val="1250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Key aspects: rapid market impact, leverage effect, EU-wide promotion, social inclusion/job creation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 algn="just"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	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5440" y="26028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114fa0"/>
                </a:solidFill>
                <a:latin typeface="FuturaT"/>
              </a:rPr>
              <a:t>Microfinance Sector in Italy</a:t>
            </a: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2480" y="1073160"/>
            <a:ext cx="69962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00240" indent="-3002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95 % of SMEs in Italy are micro-enterprises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0240" indent="-3002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Market  fragmented  with s</a:t>
            </a:r>
            <a:r>
              <a:rPr b="0" lang="fr-CH" sz="2000" spc="-1" strike="noStrike">
                <a:solidFill>
                  <a:srgbClr val="000000"/>
                </a:solidFill>
                <a:latin typeface="FuturaT"/>
              </a:rPr>
              <a:t>ome initiatives from public and private sectors but no cohesiveness; focus mainly on Southern Italy so far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0240" indent="-3002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Microcredit requirements differ from region to region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0240" indent="-3002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82 % of microfinance institutions are not-for-profit (cooperatives micro-lenders, NGOs) 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0240" indent="-3002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The beneficiaries are start-ups and micro-companies of less than five employees, as well as women and immigrants. Only 27% of the credits granted are to women and 21% to immigrant populations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0240" indent="-300240">
              <a:spcAft>
                <a:spcPts val="1250"/>
              </a:spcAft>
              <a:buClr>
                <a:srgbClr val="114fa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Evidence that the microfinance sector in Italy is nevertheless in a phase of steady development and emergence of dynamic institutions aiming for strong growth and real sustainability</a:t>
            </a: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  <a:p>
            <a:pPr marL="30024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27280" y="336240"/>
            <a:ext cx="64785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14fa0"/>
                </a:solidFill>
                <a:latin typeface="FuturaT"/>
              </a:rPr>
              <a:t>PerMicro’s Model</a:t>
            </a:r>
            <a:endParaRPr b="0" lang="en-US" sz="2600" spc="-1" strike="noStrike">
              <a:solidFill>
                <a:srgbClr val="114fa0"/>
              </a:solidFill>
              <a:latin typeface="Futura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216000"/>
            <a:ext cx="1447920" cy="81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50960" y="1098720"/>
            <a:ext cx="692316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20000"/>
              </a:lnSpc>
              <a:spcAft>
                <a:spcPts val="499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"/>
              </a:rPr>
              <a:t>Targets and strategy in line with EPPA criteria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lvl="1" marL="895320" indent="-352440" algn="just">
              <a:lnSpc>
                <a:spcPct val="120000"/>
              </a:lnSpc>
              <a:spcAft>
                <a:spcPts val="400"/>
              </a:spcAft>
              <a:buClr>
                <a:srgbClr val="ffab0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T"/>
              </a:rPr>
              <a:t>Higher risk, earlier stage funding, capacity building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 algn="just">
              <a:lnSpc>
                <a:spcPct val="120000"/>
              </a:lnSpc>
              <a:spcAft>
                <a:spcPts val="499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"/>
              </a:rPr>
              <a:t>Shareholders and governance have a clear focus on microcredit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 algn="just">
              <a:lnSpc>
                <a:spcPct val="120000"/>
              </a:lnSpc>
              <a:spcAft>
                <a:spcPts val="499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"/>
              </a:rPr>
              <a:t>Centralised assessment and decision making process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 algn="just">
              <a:lnSpc>
                <a:spcPct val="120000"/>
              </a:lnSpc>
              <a:spcAft>
                <a:spcPts val="499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"/>
              </a:rPr>
              <a:t>Branch network with high degree of outreach, particularly in Northern and Central Italy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 algn="just">
              <a:lnSpc>
                <a:spcPct val="120000"/>
              </a:lnSpc>
              <a:spcAft>
                <a:spcPts val="499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"/>
              </a:rPr>
              <a:t>Strong track record, management and staff expertise in microfinance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 algn="just">
              <a:lnSpc>
                <a:spcPct val="120000"/>
              </a:lnSpc>
              <a:spcAft>
                <a:spcPts val="499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"/>
              </a:rPr>
              <a:t>Strong attention to costs and risk covering, balance between social objectives and commercial approach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  <a:p>
            <a:pPr marL="355680" indent="-355680" algn="just">
              <a:lnSpc>
                <a:spcPct val="120000"/>
              </a:lnSpc>
              <a:spcAft>
                <a:spcPts val="499"/>
              </a:spcAft>
              <a:buClr>
                <a:srgbClr val="114fa0"/>
              </a:buClr>
              <a:buSzPct val="110000"/>
              <a:buFont typeface="FuturaT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T"/>
              </a:rPr>
              <a:t>Sustainability of model will encourage other players to start micro- ventures in Italy </a:t>
            </a:r>
            <a:endParaRPr b="0" lang="en-US" sz="2000" spc="-1" strike="noStrike">
              <a:solidFill>
                <a:srgbClr val="808080"/>
              </a:solidFill>
              <a:latin typeface="FuturaT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560680" y="6137280"/>
            <a:ext cx="5721480" cy="720720"/>
          </a:xfrm>
          <a:prstGeom prst="rect">
            <a:avLst/>
          </a:prstGeom>
          <a:gradFill rotWithShape="0">
            <a:gsLst>
              <a:gs pos="0">
                <a:srgbClr val="ffd100">
                  <a:alpha val="6627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4fa0"/>
                </a:solidFill>
                <a:latin typeface="Futura Lt BT"/>
              </a:rPr>
              <a:t>EIF’s First Direct Equity Investment into a Non-Bank Microfinance Institution</a:t>
            </a:r>
            <a:endParaRPr b="0" lang="en-US" sz="1600" spc="-1" strike="noStrike">
              <a:solidFill>
                <a:srgbClr val="808080"/>
              </a:solidFill>
              <a:latin typeface="Futur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8:04:09Z</dcterms:created>
  <dc:creator>Internet Design s.r.o.</dc:creator>
  <dc:description/>
  <cp:keywords>EIF; European Investment Fund; CID; Corporate Identity Design</cp:keywords>
  <dc:language>en-US</dc:language>
  <cp:lastModifiedBy>gutjahr</cp:lastModifiedBy>
  <dcterms:modified xsi:type="dcterms:W3CDTF">2011-01-27T16:23:27Z</dcterms:modified>
  <cp:revision>2952</cp:revision>
  <dc:subject/>
  <dc:title>EIF Presentation Template</dc:title>
</cp:coreProperties>
</file>