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872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975-FB54-4DC5-A758-D32E598D24D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3BDF-B216-4807-930D-4B14AA74DF5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BF1-8287-4864-B006-BFD681E7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79D-3186-4AB6-AB54-AF57524D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F20-694E-4EC6-9DBA-8027CF95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D29-F509-408B-925F-7ACD74BC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F8BA-B352-44E8-8993-94991CEA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6883-AA40-4C2B-92F5-49FF954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9E1-2159-42F6-940E-77AE6A1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D8FF-2B40-42DC-B07E-AB960B1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ED7F-EB95-4F78-8889-FDD5A86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69E-0DDC-4317-978A-34DE13A8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D86-7D22-44D3-A109-ED49A08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39A-9870-4432-9E1C-85E45AB1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D8A3-CB51-4285-9698-B97FEBD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930-2B59-4C31-A55A-6AAFAC9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602-9964-47CD-BCCA-74278047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951-27A8-41FB-BBC3-F95FCE0E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19B-0547-4478-998F-0125B14B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E1266-29E2-4CFE-9110-EFAD6E10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CB3DC-74CE-4126-B8F5-70E94635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B5328-0CC5-4FAF-A126-8EF7ECD3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D8E59-84EB-4286-B956-E8CCFDEF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CA6D7-89D2-4FBD-879D-E246B21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1DD-779A-4E2A-918E-51AB188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BA46F-7E55-4951-A4BA-16EB2667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B80B6-3F52-47A2-9E3D-FE9E02F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4A12B-EBA4-4BB3-8FED-A3F4E10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83378-91F7-4E50-A3BA-59949AB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F3CBF-2D2E-46BC-8C03-31AC2C69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103A7-4B87-42E9-968E-6893A64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6CFEF-6A4E-44E0-BDED-AA7E9E84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3E95-DE94-4F94-B89E-62864C36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061F-AA72-4C11-8DCF-2E84B7D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42A6-900D-4FC5-A1A1-F9B17249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E90-6F08-45A1-A891-D756E84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994B-410F-45BD-9D25-1124230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0DF0-02CE-4E84-8133-00846E5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55E9-2D5E-4145-8444-D20B8B2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E978-267D-41CC-BD84-1FFF9BB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81500-C021-458E-9D67-ED06E05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824C-A895-4BB6-A9EC-B3651E8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8AFB-F874-4939-BB75-C3167749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9781-17C0-4878-B64D-BD208AE8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D05F-0357-4146-9C0C-13BCD5B5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76A06-95C0-4B83-8B74-2208B8B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607-D707-45D9-9EF9-2540DD5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9BD87-2ADC-495E-80F3-36F2899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E28D6-D1E7-462B-8388-8E57062C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737CE-E510-4EE0-99C4-29A84B5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C3696-11A0-43C1-8B01-50E2BBC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6AD51-B8BF-4743-B44D-220DDDC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9201E-5103-478B-A94B-D424159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44E49-9EEE-4FC0-A455-7153CE5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20B21-D3FF-4625-9D96-8DC997D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6605F-5E2E-4029-AC45-903CCEB3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6AF2D-3428-4F49-96CB-9042559D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B23-4CC9-4431-A10E-C08A673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0533D-1C44-45A5-8C7F-0FED7A00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D3420-E054-46F3-B73E-317D91E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6A3FA-28EF-4647-A086-515D80D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51BF0-4274-4B2C-8BBA-1056491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C8D4E-B162-4E16-94BF-2A0AF7F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3D40F-D97E-4F43-8786-5181627C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6A74A-F7B9-4A2F-8FF2-00852951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889FB-ED3C-43EC-9A3C-AE647C3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2721B-385E-4366-9B8B-EE29A5D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D1FE9-5272-4487-B0C1-E77EC40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F9B-B413-4D8C-975A-2CD9D1D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F55C8-7A10-45A1-9D5A-7684F1A7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22970-6CB0-4BD5-BDBA-16D10710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53134-3E31-4303-9175-75E61A7B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8AC11-C568-4015-9FBD-541653A2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D79AC-1099-452E-B939-73238A50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35B36-C9E4-4241-AA9C-E27695D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F3069-A34A-430E-89D8-EA58B75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62940-F233-4DF7-AEFC-2F2C594A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EE930-9C11-43E8-9CBA-1605D66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B6FC8-EBBA-4546-9D61-28FF5D5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93F-922A-4BE7-B384-A87A3F4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B4A17-AC5E-4EF3-AFE9-D3A450E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2F128-B37E-40B0-B878-00D4D9A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C81E3-C27C-456D-ACE9-FF0DE176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87318-1153-4011-A3DC-E1FD35D4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967BA-2B9D-4461-B750-EE9F5F4C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9A5-83F5-47A3-9555-D42C1CD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82F-B755-48E3-91A2-2BF296115A1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FF0-5F97-4792-9557-563F7810687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040-F517-4D74-B4E5-E585DB21D3D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5A8-6BF1-4398-B2DF-3CE02CEF169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505F-3959-4145-8C21-044B773EAB9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829-7811-4B8E-93DE-D5F87216723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873-42E5-4B18-B8D5-D754BBBD52E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magine 3" descr="C__DOWNLOAD_Nuova_cartella_(2)_logo_Mef-DT.bmp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0722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it-IT" sz="4000" spc="-1" strike="noStrike">
                <a:solidFill>
                  <a:srgbClr val="002060"/>
                </a:solidFill>
                <a:latin typeface="Calibri"/>
              </a:rPr>
              <a:t>LE NOVITA’ ATTESE </a:t>
            </a:r>
            <a:br>
              <a:rPr sz="4000"/>
            </a:br>
            <a:r>
              <a:rPr b="1" i="1" lang="it-IT" sz="4000" spc="-1" strike="noStrike">
                <a:solidFill>
                  <a:srgbClr val="002060"/>
                </a:solidFill>
                <a:latin typeface="Calibri"/>
              </a:rPr>
              <a:t>DALL’EVOLUZIONE NORMATIVA ITALIANA </a:t>
            </a:r>
            <a:br>
              <a:rPr sz="4000"/>
            </a:br>
            <a:r>
              <a:rPr b="1" i="1" lang="it-IT" sz="4000" spc="-1" strike="noStrike">
                <a:solidFill>
                  <a:srgbClr val="002060"/>
                </a:solidFill>
                <a:latin typeface="Calibri"/>
              </a:rPr>
              <a:t>IN TEMA DI MICROCREDITO</a:t>
            </a: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900000" y="328464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79646"/>
                </a:solidFill>
                <a:latin typeface="Calibri"/>
              </a:rPr>
              <a:t>Milano, 1 febbraio 2011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ttangolo 10"/>
          <p:cNvSpPr/>
          <p:nvPr/>
        </p:nvSpPr>
        <p:spPr>
          <a:xfrm>
            <a:off x="4357800" y="2428920"/>
            <a:ext cx="335736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Rettangolo 9"/>
          <p:cNvSpPr/>
          <p:nvPr/>
        </p:nvSpPr>
        <p:spPr>
          <a:xfrm>
            <a:off x="4214880" y="3143160"/>
            <a:ext cx="257184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071720" y="4357800"/>
            <a:ext cx="72864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54061"/>
                </a:solidFill>
                <a:latin typeface="Century Schoolbook"/>
              </a:rPr>
              <a:t>Art. 106</a:t>
            </a:r>
            <a:r>
              <a:rPr b="1" lang="it-IT" sz="2000" spc="-1" strike="noStrike">
                <a:solidFill>
                  <a:srgbClr val="254061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54061"/>
                </a:solidFill>
                <a:latin typeface="Century Schoolbook"/>
              </a:rPr>
              <a:t>	</a:t>
            </a:r>
            <a:r>
              <a:rPr b="1" lang="it-IT" sz="2000" spc="-1" strike="noStrike">
                <a:solidFill>
                  <a:srgbClr val="254061"/>
                </a:solidFill>
                <a:latin typeface="Century Schoolbook"/>
              </a:rPr>
              <a:t>L'esercizio nei confronti del pubblico dell'attività di concessione di finanziamenti sotto qualsiasi forma è riservato agli intermediari finanziari autorizzati, iscritti in un apposito albo tenuto dalla Banca d'Italia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CasellaDiTesto 5"/>
          <p:cNvSpPr/>
          <p:nvPr/>
        </p:nvSpPr>
        <p:spPr>
          <a:xfrm>
            <a:off x="3857760" y="25002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Prima della riforma: 106 e 10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CasellaDiTesto 6"/>
          <p:cNvSpPr/>
          <p:nvPr/>
        </p:nvSpPr>
        <p:spPr>
          <a:xfrm>
            <a:off x="3929040" y="321480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uovi 106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(Basilea standard, vigilanza equivalent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Freccia circolare a destra 15"/>
          <p:cNvSpPr/>
          <p:nvPr/>
        </p:nvSpPr>
        <p:spPr>
          <a:xfrm>
            <a:off x="3143160" y="2714760"/>
            <a:ext cx="785880" cy="1000080"/>
          </a:xfrm>
          <a:custGeom>
            <a:avLst/>
            <a:gdLst>
              <a:gd name="textAreaLeft" fmla="*/ 105120 w 785880"/>
              <a:gd name="textAreaRight" fmla="*/ 680760 w 785880"/>
              <a:gd name="textAreaTop" fmla="*/ 176400 h 1000080"/>
              <a:gd name="textAreaBottom" fmla="*/ 72540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18" stAng="-5400000" swAng="-5400000"/>
                <a:lnTo>
                  <a:pt x="0" y="11860"/>
                </a:lnTo>
                <a:arcTo wR="21600" hR="7618" stAng="10800000" swAng="-3227541"/>
                <a:lnTo>
                  <a:pt x="16200" y="21358"/>
                </a:lnTo>
                <a:lnTo>
                  <a:pt x="21600" y="17357"/>
                </a:lnTo>
                <a:lnTo>
                  <a:pt x="16200" y="12872"/>
                </a:lnTo>
                <a:lnTo>
                  <a:pt x="16200" y="14994"/>
                </a:lnTo>
                <a:arcTo wR="21600" hR="7618" stAng="7572459" swAng="2877293"/>
                <a:lnTo>
                  <a:pt x="854" y="9739"/>
                </a:lnTo>
                <a:arcTo wR="21600" hR="7618" stAng="-10449752" swAng="5049752"/>
                <a:close/>
              </a:path>
              <a:path fill="darkenLess" w="21600" h="21600">
                <a:moveTo>
                  <a:pt x="21600" y="0"/>
                </a:moveTo>
                <a:arcTo wR="21600" hR="7618" stAng="-5400000" swAng="-5400000"/>
                <a:lnTo>
                  <a:pt x="0" y="7618"/>
                </a:lnTo>
                <a:arcTo wR="21600" hR="7618" stAng="10800000" swAng="-350248"/>
                <a:lnTo>
                  <a:pt x="854" y="9739"/>
                </a:lnTo>
                <a:arcTo wR="21600" hR="7618" stAng="-10449752" swAng="504975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itolo 1"/>
          <p:cNvSpPr/>
          <p:nvPr/>
        </p:nvSpPr>
        <p:spPr>
          <a:xfrm>
            <a:off x="785880" y="785880"/>
            <a:ext cx="7467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RIFORMA DEL TITOLO V DEL TUB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258920" y="2204640"/>
            <a:ext cx="61214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49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76092"/>
                </a:solidFill>
                <a:latin typeface="Century Schoolbook"/>
              </a:rPr>
              <a:t>Art. 111 (</a:t>
            </a:r>
            <a:r>
              <a:rPr b="1" lang="it-IT" sz="2100" spc="-1" strike="noStrike">
                <a:solidFill>
                  <a:srgbClr val="376092"/>
                </a:solidFill>
                <a:latin typeface="Century Schoolbook"/>
              </a:rPr>
              <a:t>in deroga all’art. 106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I soggetti iscritti in un apposito elenco, tenuto da un organismo, possono concedere finanziamenti a persone fisiche o società di persone, per l’avvio o l’esercizio di attività di lavoro autonomo o di microimpresa (start – up), a condizione che i finanziamenti concessi abbiano determinate caratteristich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UNO SPAZIO PER IL MICROCREDITO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467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254061"/>
                </a:solidFill>
                <a:latin typeface="Century Schoolbook"/>
              </a:rPr>
              <a:t>REGIME DI VIGILANZA ALLEGGERITO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58920" y="1699920"/>
            <a:ext cx="6192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Favorire lo sviluppo per i soggetti operanti nell’ambito del microcredi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2060"/>
                </a:solidFill>
                <a:latin typeface="Century Schoolbook"/>
              </a:rPr>
              <a:t>presentano un indubbio rilievo sociale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2060"/>
                </a:solidFill>
                <a:latin typeface="Century Schoolbook"/>
              </a:rPr>
              <a:t>sono in grado di raggiungere soggetti marginali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25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2060"/>
                </a:solidFill>
                <a:latin typeface="Century Schoolbook"/>
              </a:rPr>
              <a:t>hanno una debole rilevanza sistemic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Precisi limiti di operativit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Iscrizione in un elenco tenuto da un organismo di autoregolamentazion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42560" y="1812600"/>
            <a:ext cx="69246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4240" indent="-35244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forma di società di capitali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4240" indent="-35244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capitale versato di ammontare non inferiore a quello stabilito dalla Banca d’Italia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4240" indent="-35244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requisiti di onorabilità dei soci di controllo o rilevanti nonché di onorabilità e professionalità degli esponenti aziendali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4240" indent="-35244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oggetto sociale limitato alle sole attività proprie del microcredito (e alle attività accessorie e strumentali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4240" indent="-35244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presentazione di un programma di attività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CONDIZIONI PER L’ISCRIZIONE NELL’ELENCO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42920" y="1844280"/>
            <a:ext cx="6842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finalizzati all’avvio o allo sviluppo di iniziative imprenditoriali o all’inserimento nel mercato del lavor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ammontare non superiore a 25.000 euro e non assistiti da garanzie reali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accompagnati dalla prestazione di servizi ausiliari di assistenza e monitoraggio dei soggetti finanziat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CARATTERISTICHE DEI FINANZIAMENTI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INTERVENTI A FAVORE DEI BILANCI FAMILIARI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1600200"/>
            <a:ext cx="6769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Finanziamenti anche a persone fisiche in condizioni di particolare vulnerabilità economica o sociale (in via non prevalent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per favorirne l’inclusione finanziaria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non oltre 10.000 eur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non assistiti da garanzie reali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accompagnati da servizi ausiliari di bilancio familiare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99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a condizioni più vantaggiose di quelle di merca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Century Schoolbook"/>
              </a:rPr>
              <a:t>ENTI  NO-PROFIT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99640" y="1599840"/>
            <a:ext cx="7024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Le associazioni senza scopo di lucro possano concedere prestiti ai propri associati, purch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51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entury Schoolbook"/>
              </a:rPr>
              <a:t>finalizzati a consentire l’inclusione sociale e finanziaria del beneficiario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51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entury Schoolbook"/>
              </a:rPr>
              <a:t>non garantiti da ipoteca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451"/>
              </a:spcBef>
              <a:buClr>
                <a:srgbClr val="4f81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entury Schoolbook"/>
              </a:rPr>
              <a:t>a condizioni più favorevoli di quelle prevalenti sul mercato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entury Schoolbook"/>
              </a:rPr>
              <a:t>Riconosciuto un rilievo autonomo delle attività di credito svolte dagli enti no-profit, rispetto alla sfera di azione propria degli operatori che agiscono a scopo di lucro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28880" y="4357440"/>
            <a:ext cx="7215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7375e"/>
                </a:solidFill>
                <a:latin typeface="Lucida Handwriting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Immagine 10" descr="CA7M0HTYCAFX1EVRCADGSGVICAVO6Y2ICARSQ0PRCAWZQBWLCAAZ6D88CA9AUFYLCANTL22FCAREJB0BCABDEVYACAR0MP93CA3C5O0UCAB403DWCAFRK014CA2RI61TCATS9TZFCAN10TX4.jpg"/>
          <p:cNvPicPr/>
          <p:nvPr/>
        </p:nvPicPr>
        <p:blipFill>
          <a:blip r:embed="rId1"/>
          <a:stretch/>
        </p:blipFill>
        <p:spPr>
          <a:xfrm>
            <a:off x="3000240" y="1571760"/>
            <a:ext cx="3519720" cy="210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9:32:47Z</dcterms:created>
  <dc:creator>federico.luchetti</dc:creator>
  <dc:description/>
  <dc:language>en-US</dc:language>
  <cp:lastModifiedBy>Buzzi Daniela</cp:lastModifiedBy>
  <cp:lastPrinted>2011-01-31T17:21:55Z</cp:lastPrinted>
  <dcterms:modified xsi:type="dcterms:W3CDTF">2011-01-31T17:22:11Z</dcterms:modified>
  <cp:revision>165</cp:revision>
  <dc:subject/>
  <dc:title>Corso di formazione e di aggiornamento professionale su: “PROFILI NORMATIVI ED ETICI DEL CREDITO AL CONSUMO”   L’OFFERTA FUORI SEDE</dc:title>
</cp:coreProperties>
</file>